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8DB-DBE6-4AAD-B73C-ADC87DB6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5A9-3D97-43CC-8763-B58B3E72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A30-BA94-4BAE-BDF9-584B568B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BEA-2A8E-4565-90FC-38317E3B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A7B8-70A2-4859-96E5-32D6AB07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AA2F-C5F8-4BF9-8619-9258B43F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5873-2994-410A-B6BB-7C3D1AA5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26A8-156E-4530-AECE-D5871923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9F12-8AB0-4609-8D32-CB38FB28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B0AB-70DF-40D5-BA54-0EB2520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AAE3-B768-4C53-B814-82C4CC3D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172-EC5C-4928-8D98-30298792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1EDB-17D0-4AC1-A4B2-D6594C7B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6E6A-A9BB-4CDC-971F-7DA1809F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432F-148B-4C54-8993-F0B60974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D0AD-332B-48F9-91E5-12E29AB3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A812-2FB7-4B66-9FF8-76BF9980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85B-0F9F-41F9-94A8-ED64912B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2B1-EAA0-4C8A-A238-899CD0D1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CFB-6E82-43AB-BC9B-1DF281E1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419-47BE-4DDB-A732-042C39A6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349-CE56-4791-BB3F-5D9F7CC7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04D-18FD-41CE-A6A4-8D8E630E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E57-C4F4-492E-A4F2-83E661E2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464E-0EBF-4B47-A96E-11171B0A0F0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079E-7D5A-420B-A02E-2D1E8652C9C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ge:  32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’s 22 - 2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2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17r – 5 = 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2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17r      = 5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(17/12)r     = (5/12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lf:  (17/2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Half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 (289/57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(17/12)r + (289/576) = (5/12) + (289/57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r – (17/24)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= (529/57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– (17/24) = ± (23/2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59984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– (17/24) = (23/2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= (40/24) = (5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– (17/24) = -(23/2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= -(6/24) = -(1/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= (5/3), -(1/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(3/4)b + (1/8) = 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(3/4)b          = -(1/8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lf:  (3/8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Half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 (9/6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(3/4)b + (9/64) = -(1/8) + (9/6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b – (3/8)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= (1/6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 – (3/8) = ± (1/8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 – (3/8) = (1/8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 = (4/8) = (1/2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 – (3/8) = -(1/8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 = (2/8) = (1/4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 = (1/2) , (1/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+ 4t – 15 = 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+ 4t        = 15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+ (4/3)t        = 15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lf:  (4/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Half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= (16/3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+ (4/3)t + (16/36) = 15 + (16/3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t + (4/6)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= (49/9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t – (2/3)) = ± (7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 – (2/3) = (7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 = (9/3) = 3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 – (2/3) = -(7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 = -(5/3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 = 3, -(5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2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- 12z + 4 = 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- 12t        = -4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- 4t        = -(4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alf:  2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Half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- 4t + 4 = -(4/3) + 4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t - 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8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t - 2) = ±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 - 2 = ±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723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 - 2 =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2 +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 - 2 =    -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2 -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 = 2 ±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r…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 =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13"/>
          <p:cNvGrpSpPr/>
          <p:nvPr/>
        </p:nvGrpSpPr>
        <p:grpSpPr>
          <a:xfrm>
            <a:off x="2057400" y="1600200"/>
            <a:ext cx="4722840" cy="4133880"/>
            <a:chOff x="2057400" y="1600200"/>
            <a:chExt cx="4722840" cy="4133880"/>
          </a:xfrm>
        </p:grpSpPr>
        <mc:AlternateContent>
          <mc:Choice xmlns:a14="http://schemas.microsoft.com/office/drawing/2010/main" Requires="a14">
            <p:sp>
              <p:nvSpPr>
                <p:cNvPr id="101" name="Object 6"/>
                <p:cNvSpPr txBox="1"/>
                <p:nvPr/>
              </p:nvSpPr>
              <p:spPr>
                <a:xfrm>
                  <a:off x="2211120" y="4912560"/>
                  <a:ext cx="5904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8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  <m:r>
                        <m:t xml:space="preserve">⋅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Object 7"/>
                <p:cNvSpPr txBox="1"/>
                <p:nvPr/>
              </p:nvSpPr>
              <p:spPr>
                <a:xfrm>
                  <a:off x="2057400" y="529776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8"/>
                <p:cNvSpPr txBox="1"/>
                <p:nvPr/>
              </p:nvSpPr>
              <p:spPr>
                <a:xfrm>
                  <a:off x="6247800" y="160020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11"/>
                <p:cNvSpPr txBox="1"/>
                <p:nvPr/>
              </p:nvSpPr>
              <p:spPr>
                <a:xfrm>
                  <a:off x="6369840" y="260136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6369840" y="298656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3"/>
                <p:cNvSpPr txBox="1"/>
                <p:nvPr/>
              </p:nvSpPr>
              <p:spPr>
                <a:xfrm>
                  <a:off x="6446880" y="198504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4"/>
                <p:cNvSpPr txBox="1"/>
                <p:nvPr/>
              </p:nvSpPr>
              <p:spPr>
                <a:xfrm>
                  <a:off x="6215760" y="367992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6215760" y="5143680"/>
                  <a:ext cx="53892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>
                            <m:t xml:space="preserve">±</m:t>
                          </m:r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3:02:02Z</dcterms:created>
  <dc:creator> </dc:creator>
  <dc:description/>
  <dc:language>en-US</dc:language>
  <cp:lastModifiedBy> </cp:lastModifiedBy>
  <dcterms:modified xsi:type="dcterms:W3CDTF">2008-04-01T16:36:38Z</dcterms:modified>
  <cp:revision>15</cp:revision>
  <dc:subject/>
  <dc:title>Solutions to:</dc:title>
</cp:coreProperties>
</file>